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E736-FE67-43D4-9063-92CE93C6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FAA5F-0D55-431D-88EE-9E606D27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6AB4F-03C3-4D25-BEAF-9A4FA740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09638-4962-4BB2-8FA3-7BEAE31E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E3B3-820A-4D9D-9700-D25C4240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2179-8967-4F89-82DF-1B6264FB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874E-50FD-46EA-8656-4C927837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55BE-F847-4676-9511-63B137A8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EA80-A5DA-4E2A-AEDF-CB434640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F386-B3EE-40BC-910B-3B3B46BF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71FE-45BF-48AF-B03C-4ED84407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FB534-E62B-4AD7-BAA6-5D2CD2D3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C865-49FA-4542-9981-944150AA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94D7-38FA-483B-9D4F-5E4E1C90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8261-5425-4F75-9FE3-0DC9A94B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5F92-2CB1-4417-A463-C49CA539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DF6B-0CC0-4833-A248-C953959E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3496-8A7E-48C0-9C84-CBDE9F09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C23FC-4007-4162-A9A9-1EF36301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05B46-ECCB-4191-857D-6B8678A8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F7F49-9991-4008-A6BC-E7704DA8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5B960-C507-4E99-84BC-9F624C2A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722C-4993-46F3-90EC-56D75687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951A5-526F-4FF2-A574-2D9C9668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A63B-AFB3-4723-BF4C-7F1EB1A7751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8F18-4763-4F9A-9972-45CD0FC7D9E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4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.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Малка сме дружинк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въздържаностт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шата лозинк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е трезвеността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Сал вода ние пие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кто птичките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есело ние пее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както пеят те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Бистрата водица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я от Бога е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ирна е главиц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нея кой пие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Вино и раки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ал са за бед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е са проклети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и ще са всегда! 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15T07:37:51Z</dcterms:modified>
  <cp:revision>200</cp:revision>
  <dc:subject/>
  <dc:title>Slide 1</dc:title>
</cp:coreProperties>
</file>